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629D-EEF6-427A-A49A-1CC04224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918-D4A2-4138-9B64-0861D3EB3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137B-4473-457D-8C31-112F8EE5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8F7-58C4-40CA-B0FA-83AA0C09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9F7-4B26-4962-AA59-BA0A045A2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1D20-2E5D-4993-9978-63CDD9520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4D0-B4FC-41C7-9661-E636B047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703D-C603-45CF-B804-A62B41D9E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B316-3B2A-40CB-B65E-E6ADF977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AE5-500C-470F-A6AE-8E47A98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B3D-A454-4A6A-81F3-D2E9A4B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FD4-8994-4380-825C-68C34EDD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BA7-1CF2-4F32-B377-ED2A9675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4C1-884D-4EA9-B3AB-6B9A6C9F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D0D-56A7-4880-89FB-92F142AF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0D8-AFDD-4D3C-A015-EDCF7DEC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A1B-3A7E-4476-937D-340BCB3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DE4-DDAF-4560-9E04-CF182A0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607-4DED-4978-AA5F-D88DA3F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15F-93A7-4AF9-9A42-8730BE0A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51E-6610-499F-B27F-4737A56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1364-CB19-4EB0-9C1D-9379F015E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8" name="Picture 4" descr="FIGURESCIRCACTIVITY.png"/>
          <p:cNvPicPr/>
          <p:nvPr/>
        </p:nvPicPr>
        <p:blipFill>
          <a:blip r:embed="rId1"/>
          <a:stretch/>
        </p:blipFill>
        <p:spPr>
          <a:xfrm>
            <a:off x="-7632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7391520" y="914400"/>
            <a:ext cx="1752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and label the types of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0-12-20T17:19:14Z</dcterms:modified>
  <cp:revision>303</cp:revision>
  <dc:subject/>
  <dc:title>PowerPoint Presentation</dc:title>
</cp:coreProperties>
</file>